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ct" ContentType="image/x-pict"/>
  <Override PartName="/ppt/media/image28.pct" ContentType="image/x-pict"/>
  <Override PartName="/ppt/media/image27.pct" ContentType="image/x-pict"/>
  <Override PartName="/ppt/media/image26.pct" ContentType="image/x-pict"/>
  <Override PartName="/ppt/media/image25.pct" ContentType="image/x-pict"/>
  <Override PartName="/ppt/media/image23.pct" ContentType="image/x-pict"/>
  <Override PartName="/ppt/media/image17.pct" ContentType="image/x-pict"/>
  <Override PartName="/ppt/media/image6.png" ContentType="image/png"/>
  <Override PartName="/ppt/media/image33.pct" ContentType="image/x-pict"/>
  <Override PartName="/ppt/media/image8.pct" ContentType="image/x-pict"/>
  <Override PartName="/ppt/media/image7.pct" ContentType="image/x-pict"/>
  <Override PartName="/ppt/media/image12.pct" ContentType="image/x-pict"/>
  <Override PartName="/ppt/media/image2.png" ContentType="image/png"/>
  <Override PartName="/ppt/media/image4.jpeg" ContentType="image/jpeg"/>
  <Override PartName="/ppt/media/image13.pct" ContentType="image/x-pict"/>
  <Override PartName="/ppt/media/image10.pct" ContentType="image/x-pict"/>
  <Override PartName="/ppt/media/image34.pct" ContentType="image/x-pict"/>
  <Override PartName="/ppt/media/image9.pct" ContentType="image/x-pict"/>
  <Override PartName="/ppt/media/image11.pct" ContentType="image/x-pict"/>
  <Override PartName="/ppt/media/image35.pct" ContentType="image/x-pict"/>
  <Override PartName="/ppt/media/image32.pct" ContentType="image/x-pict"/>
  <Override PartName="/ppt/media/image5.png" ContentType="image/png"/>
  <Override PartName="/ppt/media/image16.pct" ContentType="image/x-pict"/>
  <Override PartName="/ppt/media/image30.pct" ContentType="image/x-pict"/>
  <Override PartName="/ppt/media/image3.png" ContentType="image/png"/>
  <Override PartName="/ppt/media/image14.pct" ContentType="image/x-pict"/>
  <Override PartName="/ppt/media/image31.pct" ContentType="image/x-pict"/>
  <Override PartName="/ppt/media/image1.pct" ContentType="image/x-pict"/>
  <Override PartName="/ppt/media/image24.pct" ContentType="image/x-pict"/>
  <Override PartName="/ppt/media/image15.pct" ContentType="image/x-pict"/>
  <Override PartName="/ppt/media/image18.pct" ContentType="image/x-pict"/>
  <Override PartName="/ppt/media/image20.pct" ContentType="image/x-pict"/>
  <Override PartName="/ppt/media/image19.pct" ContentType="image/x-pict"/>
  <Override PartName="/ppt/media/image21.pct" ContentType="image/x-pict"/>
  <Override PartName="/ppt/media/image2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0F45-2DFE-4089-B385-A71F2E62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F41-38B1-462B-B58C-3A17B51A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14B-31DC-4D66-88EE-5416E36A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3C02-D45B-430A-AF19-DAFED7DA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9289-030F-4DAD-B6B7-B8461DE3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4D9-5093-4B91-BA03-B33125C4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046-2D47-45F5-9417-5341A64E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927-68B5-4673-8495-D99D579B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380880"/>
            <a:ext cx="861048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196-4374-4670-BFA5-2D666C3F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4DE-ABAC-4D2F-B74B-7D27220C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4B22-69FC-45B1-A4E8-6B07994A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7BF0-6D3B-4DC8-811D-1258A461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57240"/>
            <a:ext cx="9144000" cy="6856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pple LiGothic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LiGothic Medium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19520" y="6248520"/>
            <a:ext cx="3504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pple LiGothic Mediu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pple LiGothic Medium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pple LiGothic Mediu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34F38-F192-4BD2-9581-FC9B5A29D568}" type="slidenum">
              <a:rPr b="0" lang="en-US" sz="1800" spc="-1" strike="noStrike">
                <a:solidFill>
                  <a:srgbClr val="000000"/>
                </a:solidFill>
                <a:latin typeface="Apple LiGothic Medium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mailto:brad.knowles@snow.nl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tp://ftp.sendmail/org/pub/sendmail/sendmail.8.12.6.tar.gzftp://ftp.sendmail/org/pub/sendmail/sendmail.8.12.6.tar.gz" TargetMode="External"/><Relationship Id="rId2" Type="http://schemas.openxmlformats.org/officeDocument/2006/relationships/hyperlink" Target="ftp://ftp.sendmail/org/pub/sendmail/sendmail.8.12.6.tar.gzftp://ftp.sendmail/org/pub/sendmail/sendmail.8.12.6.tar.gz" TargetMode="External"/><Relationship Id="rId3" Type="http://schemas.openxmlformats.org/officeDocument/2006/relationships/hyperlink" Target="http://www.postfix.org/ftp-sites.html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etapp.com/tech_library/3022.html" TargetMode="External"/><Relationship Id="rId2" Type="http://schemas.openxmlformats.org/officeDocument/2006/relationships/hyperlink" Target="http://www.coker.com.au/bonnie++/" TargetMode="External"/><Relationship Id="rId3" Type="http://schemas.openxmlformats.org/officeDocument/2006/relationships/hyperlink" Target="http://www.coker.com.au/bonnie++/" TargetMode="External"/><Relationship Id="rId4" Type="http://schemas.openxmlformats.org/officeDocument/2006/relationships/hyperlink" Target="http://www.coker.com.au/bonnie++/" TargetMode="Externa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hub-internet.org/brad/FreeBSD/postmark.html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usenix.org/events/usenix02/tech/freenix/dowse.html" TargetMode="External"/><Relationship Id="rId2" Type="http://schemas.openxmlformats.org/officeDocument/2006/relationships/hyperlink" Target="http://www.usenix.org/events/usenix02/tech/freenix/dowse.html" TargetMode="External"/><Relationship Id="rId3" Type="http://schemas.openxmlformats.org/officeDocument/2006/relationships/hyperlink" Target="http://www.usenix.org/events/usenix02/tech/freenix/dowse.html" TargetMode="External"/><Relationship Id="rId4" Type="http://schemas.openxmlformats.org/officeDocument/2006/relationships/hyperlink" Target="http://www.usenix.org/events/usenix02/tech/freenix/dowse.html" TargetMode="External"/><Relationship Id="rId5" Type="http://schemas.openxmlformats.org/officeDocument/2006/relationships/hyperlink" Target="http://www.usenix.org/events/usenix02/tech/freenix/dowse.html" TargetMode="External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ct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ct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ct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ct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ct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ct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ct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ct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ct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ct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ct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ct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ct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ct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ct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ct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ct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ct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ct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ct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ct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pple LiGothic Medium"/>
              </a:rPr>
              <a:t>MTA Performance Comparison: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pple LiGothic Medium"/>
              </a:rPr>
              <a:t>sendmail vs. postfix on *BSD</a:t>
            </a:r>
            <a:endParaRPr b="0" lang="en-US" sz="4000" spc="-1" strike="noStrike">
              <a:solidFill>
                <a:srgbClr val="000000"/>
              </a:solidFill>
              <a:latin typeface="Apple LiGothic Medium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02000" cy="81288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1065240" y="2743200"/>
            <a:ext cx="7010280" cy="2089800"/>
            <a:chOff x="1065240" y="2743200"/>
            <a:chExt cx="7010280" cy="2089800"/>
          </a:xfrm>
        </p:grpSpPr>
        <p:sp>
          <p:nvSpPr>
            <p:cNvPr id="45" name=""/>
            <p:cNvSpPr/>
            <p:nvPr/>
          </p:nvSpPr>
          <p:spPr>
            <a:xfrm>
              <a:off x="1065240" y="2743200"/>
              <a:ext cx="4421160" cy="20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pple LiGothic Medium"/>
                </a:rPr>
                <a:t>Brad Know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pple LiGothic Medium"/>
                </a:rPr>
                <a:t>Senior Consultant for Snow, B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009999"/>
                  </a:solidFill>
                  <a:uFillTx/>
                  <a:latin typeface="Courier New"/>
                  <a:hlinkClick r:id="rId2"/>
                </a:rPr>
                <a:t>brad.knowles@snow.n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065240" y="4495680"/>
              <a:ext cx="701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http://www.shub-internet.org/brad/papers/mtacomparison/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28600" y="6248520"/>
            <a:ext cx="487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pple LiGothic Medium"/>
              </a:rPr>
              <a:t>Entire contents copyright © 2002 by Brad Knowles, all rights reserv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Hardware Used: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Apple LiGothic Medium"/>
              </a:rPr>
              <a:t>MacOS X (Part 1)</a:t>
            </a:r>
            <a:endParaRPr b="0" lang="en-US" sz="48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5867280"/>
            <a:ext cx="48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pyright © 2001 Sunset Computer Servic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03560" y="1981080"/>
            <a:ext cx="473688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0BFB-3213-4097-8D60-07E218ADE4D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Hardware Used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MacOS X (Part 2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owerBook G4 (DVI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S: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acOS X 10.2.2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U: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owerPC G4 @ 800MHz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AM: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GB real, 2GB virtua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IC: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pple AirPort 802.11b WiF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D: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40G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shiba MK4018GA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4200 RP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2ms avg. seek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98C6-AA90-46DA-9760-6C9CD55E208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Hardware Used: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Apple LiGothic Medium"/>
              </a:rPr>
              <a:t>MacOS X (Part 2)</a:t>
            </a:r>
            <a:endParaRPr b="0" lang="en-US" sz="48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5867280"/>
            <a:ext cx="48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pyright © 2001 Sunset Computer Servic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7120" y="1981080"/>
            <a:ext cx="554976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4A7-4A9B-42F5-90E3-0A84995FAE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Software Tested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ndmail 8.12.6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Palatino"/>
                <a:hlinkClick r:id="rId1"/>
              </a:rPr>
              <a:t>ftp://ftp.sendmail/org/pub/sendmail/sendmail.8.12.6.tar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Palatino"/>
                <a:hlinkClick r:id="rId2"/>
              </a:rPr>
              <a:t>gz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ostfix 1.1.11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Palatino"/>
                <a:hlinkClick r:id="rId3"/>
              </a:rPr>
              <a:t>http://www.postfix.org/ftp-sites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im 4.10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ried every way I could think of, but could not get it configured to relay back to an IP address or port on the same machin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F100-61DE-4653-AE3D-0FE85932375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Tools Used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Disk Benchmarkin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ostMark from Network Applian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Palatino"/>
                <a:hlinkClick r:id="rId1"/>
              </a:rPr>
              <a:t>http://www.netapp.com/tech_library/3022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onnie++ from Russell Cok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Palatino"/>
                <a:hlinkClick r:id="rId2"/>
              </a:rPr>
              <a:t>http://www.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Palatino"/>
                <a:hlinkClick r:id="rId3"/>
              </a:rPr>
              <a:t>coker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Palatino"/>
                <a:hlinkClick r:id="rId4"/>
              </a:rPr>
              <a:t>.com.au/bonnie++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MTP Benchmarkin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mtp-source/smtp-sink from Wietse Venem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cluded with postfix distribu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ostal from Russell Coker (with smtp-sink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coker.com.au/posta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75B2-AEB3-4D09-BA02-B1238D93CBC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Methodology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Get disk subsystem baseline by performing benchmarking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or each platform &amp; filesystem configuration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ostMa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See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Palatino"/>
                <a:hlinkClick r:id="rId1"/>
              </a:rPr>
              <a:t>http://www.shub-internet.org/brad/FreeBSD/postmark.html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onnie++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nfigured to test similar parameter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le sizes, numbers, &amp; subdirectories according to the four PostMark te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7AFA-16CA-45B2-8231-13EB910657F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Methodology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FreeBSD, we only test turning on or off “soft updates”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We do not test (turned on by default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vfs.vmiodirenable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dirprefs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dirhash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data on all the possible combinations of the above, see “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cent Filesystem Optimisations in FreeBSD”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t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Palatino"/>
                <a:hlinkClick r:id="rId1"/>
              </a:rPr>
              <a:t>http://www.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Palatino"/>
                <a:hlinkClick r:id="rId2"/>
              </a:rPr>
              <a:t>usenix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Palatino"/>
                <a:hlinkClick r:id="rId3"/>
              </a:rPr>
              <a:t>.org/events/usenix02/tech/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Palatino"/>
                <a:hlinkClick r:id="rId4"/>
              </a:rPr>
              <a:t>freenix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Palatino"/>
                <a:hlinkClick r:id="rId5"/>
              </a:rPr>
              <a:t>/dowse.html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comparison data of Journaling vs. Soft Updates, see “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Journaling Versus Soft Updates: Asynchronous Meta-data Protection in File Systems” at 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http://www.usenix.org/publications/library/proceedings/usenix2000/general/seltzer.html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1C00-A739-4443-9343-698D3C7F5D3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Methodology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r MacOS X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e test onl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FS+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pple’s Extended Hierarchical File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F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mory-based filesystem created using RamBunctious 2.0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96E7-41AE-4B27-9C45-CC8A99B9D58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Methodology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r MacOS X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We do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Palatino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te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F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MO, Apple broke it while porting HFS+ to Mach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any applications do not recognize it, in addition to MacOS 9 itself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lassic” requires that boot device be HFS+ and MacOS 9 must be installed before MacOS X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FS+ with Journal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oo new, introduced with MacOS X Server 10.2.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itial reports indicate ~20% performance lo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ACE-4F34-4897-AA03-6875E7BF86E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Methodology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or MacOS X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es not have a native “poll.h” or “libpoll” (required by postal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stall manually from source http://www.clapper.org/software/pol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stall using “fink”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MacOS X package/port manager based on Debian “dselect”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nable to test Bonnie++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eed further assistance from the author to find out why it is crashing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0B87-49E5-4860-B11A-66A2008B4C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Overview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Meta Informat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ardware Use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ftware Teste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ools Use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est Result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D814-4C69-41B3-A0A8-E459BF1E73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Methodology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erform SMTP benchmarkin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r each hardware &amp; software configuration, tes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est direct source-&gt;sink conne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Demonstrate maximum possible performance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est source-&gt;relay-&gt;sink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Show relay performance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esting only relaying, not local deliver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74240" indent="-214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est generated on, relayed through, and terminated on “loopback” network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3" marL="1504080" indent="-214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Eliminate all question of network or NIC performance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BEF-FE2E-4ADC-A4C2-4298683C097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Test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hart data onl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ostMark table data available fr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shub-internet.org/brad/FreeBSD/postmar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Bonnie++ table data not yet availabl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mtp-source/smtp-sink data not yet availabl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`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hostname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` must be legal (I.e., does not end with “.”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ostal data not yet availabl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C2C-F5B9-4704-A691-FD3B082D06E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Test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umb “Driver” Script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y “runpostmark” script available at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ttp://www.shub-internet.org/brad/runpostma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y “runbon” script available at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ttp://www.shub-internet.org/brad/runb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y “runsmtp” script available at 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ttp://www.shub-internet.org/brad/runsmtp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81F7-E7E1-4C7D-8F47-BF1FCFA5468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Test Results: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Apple LiGothic Medium"/>
              </a:rPr>
              <a:t>PostMark Sample Run</a:t>
            </a:r>
            <a:endParaRPr b="0" lang="en-US" sz="48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 cd /var/tmp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% postmar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ostMark v1.5 : 3/27/0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m&gt;set number 10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m&gt;set transactions 500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m&gt;show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Current configuration i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he base number of files is 10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ransactions: 500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iles range between 500 bytes and 9.77 kilobytes in siz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orking directory: /var/tmp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lock sizes are: read=512 bytes, write=512 byt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iases are: read/append=5, create/delete=5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sing Unix buffered file I/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andom number generator seed is 42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port format is verbos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m&gt;run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7F4-92BB-4799-B9FB-1B6AD60C6D0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Test Results: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Apple LiGothic Medium"/>
              </a:rPr>
              <a:t>PostMark Sample Run</a:t>
            </a:r>
            <a:endParaRPr b="0" lang="en-US" sz="48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reating files...Do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erforming transactions........Do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leting files...Don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ime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497 seconds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492 seconds of transactions (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10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per second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iles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26014 created (52 per secon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Creation alone: 1000 files (500 per secon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Mixed with transactions: 25014 files (50 per secon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24868 read (50 per secon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24880 appended (50 per secon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26014 deleted (52 per secon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Deletion alone: 1028 files (342 per secon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Mixed with transactions: 24986 files (50 per second)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ata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161.15 megabytes read (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332.0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kilobytes per secon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168.38 megabytes written (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346.9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kilobytes per second)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9733-5BEF-495B-9CA7-56F23D4103E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PostMark Test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85800" y="1981080"/>
          <a:ext cx="77724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43D-3D48-43F9-BFDA-DE8C86B96B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PostMark Test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85800" y="1981080"/>
          <a:ext cx="77724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3645-6284-49B0-8736-E96EB15F32CA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PostMark Test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5800" y="1981080"/>
          <a:ext cx="77724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A027-6F6A-4AD2-BC95-CFBFC6A3A62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PostMark Test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85800" y="1981080"/>
          <a:ext cx="77724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331A-1816-4453-8804-FCDAC684A28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PostMark Test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85800" y="1981080"/>
          <a:ext cx="77724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7983-B648-42C6-A0A2-DD7D4446B94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Goal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how you what it looks like to do MTA performance tuning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On as many *BSD platforms as I coul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cus on the process, not the numbers or expected/desired outcom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You get to see (most) everything, warts and al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DE0F-4AC2-4863-812F-DCB511CDCF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PostMark Test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981080"/>
          <a:ext cx="77724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30B6-F482-48B2-A381-307122F33AE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PostMark Test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85800" y="1981080"/>
          <a:ext cx="77724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5769-618B-4660-ABEC-CC27196205B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PostMark Test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5800" y="1981080"/>
          <a:ext cx="7772400" cy="41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06F6-D363-4A6C-9DB0-A4BA28A188D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Test Results: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Apple LiGothic Medium"/>
              </a:rPr>
              <a:t>Bonnie++ Sample Run</a:t>
            </a:r>
            <a:endParaRPr b="0" lang="en-US" sz="48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 bonnie++ -d /var/tmp/bonnie -n 1:10k:0 -m compaq-soft -r 48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ing with putc()...d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Writing intelligently...d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writing…d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ding with getc()...d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ading intelligently...don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rt 'em...done...done...done..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reate files in sequential order...don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 files in sequential order...don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lete files in sequential order...don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reate files in random order...don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tat files in random order...don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lete files in random order...done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Version 1.02d       ------Sequential Output------ --Sequential Input- --Random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-Per Chr- --Block-- -Rewrite- -Per Chr- --Block-- --Seeks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Machine        Size K/sec %CP K/sec %CP K/sec %CP K/sec %CP K/sec %CP  /sec %CP</a:t>
            </a:r>
            <a:br>
              <a:rPr sz="1200"/>
            </a:b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compaq-sof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300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240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67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458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3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205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2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194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53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364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1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57.8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------Sequential Create------ --------Random Create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      -Create-- --Read--- -Delete-- -Create-- --Read--- -Delete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files:max            /sec %CP  /sec %CP  /sec %CP  /sec %CP  /sec %CP  /sec %CP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1:10: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40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31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+++++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+++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83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49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56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4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+++++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+++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1746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9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mpaq-soft,300M,2407,67,4584,39,2052,21,1948,53,3644,18,57.8,3,1:10:0,402,31, +++++,+++,832,49,564,46,+++++,+++,1746,99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604-3DDC-4041-85A9-C923E468217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Bonnie++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5801-5CFC-4B01-B8F6-D052611A83C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Bonnie++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6B93-4C5F-4738-A08E-520FDF32CCC1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Bonnie++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7002-754C-484F-B764-39F0E9D78921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Bonnie++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38B-3559-4234-8ACA-0501D6CC5A72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Bonnie++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CC73-993A-4CE7-9023-F962B3BEAB5D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Bonnie++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FC03-D47E-4E15-972E-3F28EE933D34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Goal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ically, chapter 3 from the book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urier New"/>
              </a:rPr>
              <a:t>sendmai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Palatino"/>
              </a:rPr>
              <a:t> Performance Tuning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 by Nick Christens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e http://www.jetcafe.org/~npc/book/sendmai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911840" y="1981080"/>
            <a:ext cx="3281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185-6E17-4208-82ED-1845A908A1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Test Results: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Apple LiGothic Medium"/>
              </a:rPr>
              <a:t>SmtpStone Sample Run</a:t>
            </a:r>
            <a:endParaRPr b="0" lang="en-US" sz="48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 sudo smtp-sink 127.0.0.1:25 1024 &amp;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 foreach I (1 2 3 4 5 6 7 8 9 10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? /usr/bin/time smtp-source -l 10240 -f fred@example.net \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t george@example.net -m 1000 -s 512 127.0.0.1:25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?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8.06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real         0.22 user         1.65 sy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9.03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real         0.26 user         1.45 sy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mtp-source: fatal: connect: Operation timed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32.0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real         0.17 user         1.68 sys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13.0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real         0.19 user         1.43 sy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10.9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real         0.31 user         1.28 sy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9.0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real         0.24 user         1.52 sy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8.04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real         0.25 user         1.57 sy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mtp-source: fatal: lost connection while reading server greet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16.51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real         0.19 user         1.61 sys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10.99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real         0.19 user         1.53 sy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Courier New"/>
              </a:rPr>
              <a:t>16.52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real         0.25 user         1.50 sys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1BB1-4C62-445A-B764-DB928E0F47B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SmtpStone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30B-8030-4A9A-99AB-FEC0B2D99E83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SmtpStone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5CF-3605-45CF-9C3F-41F7FB8F2A63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SmtpStone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00F3-08F0-4B42-8CBC-5382ABC82C00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Test Results: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Apple LiGothic Medium"/>
              </a:rPr>
              <a:t>Postal Sample Run</a:t>
            </a:r>
            <a:endParaRPr b="0" lang="en-US" sz="48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 sudo smtp-sink 127.0.0.1:25 1024 &amp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 postal -m 10k -p 64 -c 1 127.0.0.1 postal.user -time,messages,data(K),errors,connections,SSL conne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05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65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1262,0,7715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06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79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1656,0,7795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07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84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2305,0,7847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08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61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1528,0,7616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09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67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1659,0,7670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10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41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39922,0,7413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11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76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1886,0,7765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12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75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1960,0,7752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13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42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39835,0,7423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14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47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39697,0,7475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15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458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39981,0,7458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16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46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0332,0,7462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17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281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39294,0,7280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18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408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0022,0,7409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19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59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0882,0,7586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20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73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1991,0,7746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21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64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1122,0,7646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^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0DCF-483F-439D-B5FB-37194804E8D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Test Results: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Apple LiGothic Medium"/>
              </a:rPr>
              <a:t>Postal Sample Run</a:t>
            </a:r>
            <a:endParaRPr b="0" lang="en-US" sz="48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 sudo smtp-sink 127.0.0.1:25 1024 &amp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 postal -m 10k -p 128 -c 1 127.0.0.1 postal.user -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,messages,data(K),errors,connections,SSL conne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27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828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3988,0,8411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28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896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8165,0,8965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29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8952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8100,0,8952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30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8785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6803,0,8785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31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7948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2811,0,7933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ver timed out on rea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ver timed out on read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[ .. .. Deletia .. .. ]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ver timed out on rea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rver timed out on rea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32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8016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3367,</a:t>
            </a: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28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8059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33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896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7748,0,8960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34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905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8507,0,9022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35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873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7175,0,8769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36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9057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8586,0,9057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37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8800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6722,0,8800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38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8933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8092,0,8933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39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8969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8155,0,8955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23:40,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ourier New"/>
              </a:rPr>
              <a:t>8984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,48576,0,8998,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^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FF39-3EA6-4958-AD47-D1DE142300A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Test Results: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Apple LiGothic Medium"/>
              </a:rPr>
              <a:t>Postal Sample Run</a:t>
            </a:r>
            <a:endParaRPr b="0" lang="en-US" sz="48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 sudo smtp-sink 127.0.0.1:25 1024 &amp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 postal -m 10k -p 256 -c 1 127.0.0.1 postal.user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sage: postal [-m maximum-message-size] [-p processes] [-l local-address]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[-c messages-per-connection] [-r messages-per-minute] [-a]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[-b [no]netscape] [-[z|Z] debug-file]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[-s ssl-percentage]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         smtp-server user-list-filename conversion-filenam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Postal Version: 0.61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% postal -m 10k -p 32 -c 1 127.0.0.1 postal.user 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time,messages,data(K),errors,connections,SSL connect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n't connect to 127.0.0.1 port 25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n't connect to 127.0.0.1 port 25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n't connect to 127.0.0.1 port 25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n't connect to 127.0.0.1 port 25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an't connect to 127.0.0.1 port 25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6E62-FE1B-4937-8376-EB8A6A342F4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Postal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7BB9-EAC0-4132-AC74-A7C45E76C733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Notes for Testing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hen testing real MTAs, you need to watch more than just the output from the testing progr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t unusual for MTAs to accept mail faster than they can process it, especially under heavy loa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lso watc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ail queue siz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lq | grep '[0-9][0-9]:[0-9][0-9]' | wc -l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PU loa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ostat 5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mory utiliz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mstat 5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EA52-F794-4DAD-A61D-C157B7E79FB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Notes for Postfix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ke sure that you modify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etc/postfix/main.cf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to be suitabl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ed to boos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cal_destination_concurrency_limi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ault_destination_concurrency_limi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Check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/etc/postfix/master.cf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to make sure there are no artificial limits on processes like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mtp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mtpd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unce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eanup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write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etc…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A385-3195-4D2C-A48B-1BC2F9AFB57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Meta Information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ardware Use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oftware Teste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Benchmark Too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Methodolog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ED3-8A1E-49D3-9739-CF8E4F6C431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Notes for MacOS X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nfortunately, Apple brok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iost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till mostly okay for what we want to watch (CPU user %, system %, and idle %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pple doesn’t even provid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mst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vm_sta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is not the same program, although it is simila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D603-294C-4D76-8C9B-2633D6874DD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Postfix SmtpStone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77F1-FE45-4B99-A232-F40C01BC6C02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Postfix SmtpStone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4B8C-67FD-43E1-94F7-24245316230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Postfix SmtpStone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1A89-6108-4672-981A-60D64EC8364F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Postfix SmtpStone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D1B-1BAB-4098-BB15-34244D8CF4B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Sendmail SmtpStone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DA7-F061-404D-938C-C5138E90DC22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Sendmail SmtpStone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0F6F-F31B-4B57-A4E3-2A9FCDEDC15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Sendmail SmtpStone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E32D-ACB7-4C86-98B1-538D616F5C31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Sendmail SmtpStone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CD11-72D9-4397-83A9-C2AFDFB1A1C0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Performance Tuning: Syslog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ocal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log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can cause excessive load on busy mai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onfigure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log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to write to logs asynchronousl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Perhaps via a “–” (dash) before the filename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u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log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 on a central log server, across the network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Also allows you to perform more in-depth log processing, without interfering with mail services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Generally logs are much easier to manage centrally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Can also combine with other central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yslog</a:t>
            </a: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 processing applications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E.g., Addamark Log Management System</a:t>
            </a:r>
            <a:endParaRPr b="0" lang="en-US" sz="16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032A-AAE0-46A2-A3C4-26FF700C01E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Hardware Used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etBS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winhead “Twinstation 5G” (Sun SPARCstation 5 clone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472040" indent="-210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Not UltraSPARC, but the ancient SPARC 5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OS: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etBSD 1.6-RELEA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PU: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icrosSPARC-II @ 110MHz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AM: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32MB real, 384MB virtua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IC: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On-board “Lance” 10Base-T Ethern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&amp; SBus QuadFastEthernet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51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nfortunately, disk drives died before testing could be performed (bug in NetBSD regarding SCSI tagged command queueing for old drives?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7DB-DF02-4F80-915C-87DB29EB394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Performance Tuning: Syslog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Classic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syslog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uses UDP, can lose 75% or more of packets sent across the networ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Replace classic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log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with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nsyslog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syslog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, or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syslog-ng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and use TCP instead of UD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097280" indent="-219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pending on your particular requirements for hardware, OS, environment, etc…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411-A448-4E7A-9299-FAFF4DD4204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Postfix SmtpStone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F484-049E-4CA3-9094-CE7B5C4080EF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Sendmail SmtpStone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98FC-0256-477C-A585-7E91D5B71D5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Sendmail SmtpStone Result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85800" y="1371600"/>
          <a:ext cx="777240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77724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443-6B41-485D-B1A5-AB85C2C859A4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Conclusion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his process can be difficult and time-consuming to get right, but it pays off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Graphs &amp; charts can help a great dea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ut they don’t tell the whole s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ostfix is a lot faster than even I had though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asn’t able to get sendmail tuned for the performance I’m confident it can del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enchmarking tools (esp. Bonnie++ and postal) need more work to be usefu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36BF-AB74-4097-B8C6-F17BD215825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Conclusions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se the Scientific Metho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ry to set aside personal bia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Trust only what you can prov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Generate Hypothesi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Generate test for Hypothesi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est Hypothesi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rove or Disprov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If disproven, modify or generate new Hypothesi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2110-1A57-48F6-B011-B4C979F1BB0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Related Work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Nick Christens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urier New"/>
              </a:rPr>
              <a:t>sendmail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Palatino"/>
              </a:rPr>
              <a:t> Performance Tuning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book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jetcafe.org/~npc/book/sendmai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erformance Tuning Sendmail Systems” sli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jetcafe.org/~npc/doc/performance_tuning.pdf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Brad Knowl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ndmail Performance Tuning for Large Systems” slides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shub-internet.org/brad/papers/sendmail-tun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2240-1134-47C4-B857-EDBB81CF32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Related Work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Matthias Andree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http://www-dt.e-technik.uni-dortmund.de/~ma/postfix/vsqmail.htm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Palatino"/>
              </a:rPr>
              <a:t>http://www-dt.e-technik.uni-dortmund.de/~ma/postfix/bench2.html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Nakamura Motonori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kyoto.wide.ad.jp/mta/eval1/eindex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iprian Ascante 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benchmarks.dmz.ro/index.php?topic=LinMS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C962-D620-4B6A-B0B1-A754126138D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Hardware Used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reeBS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Compaq Armada 4131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S: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reeBSD 4.6.2-RELE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U: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entium 133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AM: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48MB real, 384MB virtua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IC: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santé FriendlyNET AL1011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“Prism2” 802.11b WiFi PCMCI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D: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0GB IBM Travelstar 20G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4200 RP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2ms avg. seek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4DE0-57DA-4320-8649-379F72CA467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Hardware Used:</a:t>
            </a:r>
            <a:br>
              <a:rPr sz="6000"/>
            </a:br>
            <a:r>
              <a:rPr b="0" lang="en-US" sz="4800" spc="-1" strike="noStrike">
                <a:solidFill>
                  <a:srgbClr val="000000"/>
                </a:solidFill>
                <a:latin typeface="Apple LiGothic Medium"/>
              </a:rPr>
              <a:t>FreeBSD</a:t>
            </a:r>
            <a:endParaRPr b="0" lang="en-US" sz="4800" spc="-1" strike="noStrike">
              <a:solidFill>
                <a:srgbClr val="000000"/>
              </a:solidFill>
              <a:latin typeface="Apple LiGothic Medium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86080" y="1981080"/>
            <a:ext cx="617220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447920" y="5867280"/>
            <a:ext cx="487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Image copyright © 2001 Sunset Computer Services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3245-30F4-4408-AEAB-30DCAECF1D2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38088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pple LiGothic Medium"/>
              </a:rPr>
              <a:t>Hardware Used</a:t>
            </a:r>
            <a:endParaRPr b="0" lang="en-US" sz="6000" spc="-1" strike="noStrike">
              <a:solidFill>
                <a:srgbClr val="000000"/>
              </a:solidFill>
              <a:latin typeface="Apple Li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MacOS X (Part 1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owerBook G3 “Pismo”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S: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acOS X 10.2.1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U: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owerPC G3 @ 400MHz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AM: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1GB real, 2GB virtua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IC: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Apple AirPort 802.11b WiF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D: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48GB IBM Travelstar 40G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5400 RP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2ms avg. seek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© 2002 by Brad Knowl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4B5E-B861-45C5-AB49-F0A27E9416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1-1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6:16:44Z</dcterms:created>
  <dc:creator>Brad Knowles</dc:creator>
  <dc:description/>
  <dc:language>en-US</dc:language>
  <cp:lastModifiedBy>Brad Knowles</cp:lastModifiedBy>
  <cp:lastPrinted>2002-10-28T18:07:52Z</cp:lastPrinted>
  <dcterms:modified xsi:type="dcterms:W3CDTF">2002-11-16T03:29:53Z</dcterms:modified>
  <cp:revision>189</cp:revision>
  <dc:subject/>
  <dc:title>Domain Name Server Comparison: BIND 8 vs. BIND 9 vs. djbdns vs. ???</dc:title>
</cp:coreProperties>
</file>